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DD8-D3BE-478C-8A00-C0831162B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4D42-1FAC-4ACD-A7F0-16BA5FFB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07D-ACC5-4C30-91CE-73937866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0F0-9421-4122-9A0B-7D913FCB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7857-72A1-49F8-883A-4FD1B3B7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FD4-3B2F-416C-83E4-A4FC1966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FBC2-DB16-4DF3-967D-AC1B1454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583-2303-4D74-BC0B-7A0A471F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3E9-D976-46F5-8BF3-8566FD29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8452-54EB-43C7-B063-E39A1DA0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0AEA-F124-4D87-BE94-18779695E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C116-A380-4B5D-A6A0-D6041E17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D658-80F8-49EF-B63B-6D3CE06AB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87C-CB17-4F40-A3FC-48792F09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D48-30A4-41D5-9467-0ADAFF42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2EB7-F3DF-4592-8F3B-A82B45C89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FB07-49C8-44B8-93F1-EE29B68F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B24-40B6-4FAE-9FE5-51E195C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E01-57E0-4AB8-BB7B-7DDB280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EBB-0FAC-4C60-950F-CA94D2CB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4CC-2178-4DA2-A9EB-1A670D55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9197-2844-4622-A953-56737B6A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2E4-CEDE-4073-B316-B5A87877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4B9E-08C2-4697-8D9C-DE82C8C5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FFF-EB74-4BDC-B0E6-6734EEB6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8DC2-373B-4343-94DF-4490234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73B-184C-428B-9E4D-534E76A0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335B-74C5-4645-9CAF-9C3D77E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59A-6E3E-4042-AA7B-69D75C50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9D49-66A1-42EF-B7A8-0222857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2830-878B-49B0-B2C2-D2C2215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153C-740D-4C33-97CC-6B09DD0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BDB9-C9A5-4953-AD04-331EA34E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141-385F-4F4A-9BF9-C6CBA6A6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05D-C18F-4A30-BCAD-6E079C44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048-FEB0-40E3-8EBD-CC0A8FA8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452-092B-4AAF-AD02-9C1A672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B10-BDC3-4182-94C6-EF5D3D04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C71-2766-4D05-93F0-816BB962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745-918E-40B0-89ED-6CE503F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DBF-F621-40A7-A5EC-1E992938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1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D76-5464-4477-B43B-7A8F679DD621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1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B10B-4949-4C51-96B0-38AA591170A2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7335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TP Design Feature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54864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03 Demonstrate desktop publishing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ull Quot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80720"/>
            <a:ext cx="30477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otation taken directly from the body of the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to draw attenti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made larger than body tex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57440" y="1676160"/>
            <a:ext cx="34290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columns with word wr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one in a column surrounded by white spa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ght justified in the last colum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eath the headline as a dec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6" descr="pull-quote"/>
          <p:cNvPicPr/>
          <p:nvPr/>
        </p:nvPicPr>
        <p:blipFill>
          <a:blip r:embed="rId1"/>
          <a:stretch/>
        </p:blipFill>
        <p:spPr>
          <a:xfrm>
            <a:off x="3581280" y="2057400"/>
            <a:ext cx="1905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752120"/>
            <a:ext cx="6934320" cy="4226040"/>
          </a:xfrm>
          <a:prstGeom prst="rect">
            <a:avLst/>
          </a:prstGeom>
          <a:noFill/>
          <a:ln w="9360">
            <a:solidFill>
              <a:srgbClr val="309f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rizontal or vertical lines that can be applied to paragraphs, text boxes, and objects in a publica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idebar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quare box filled with information related to the main story or to a completely separate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0193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iner for text that can be placed and formatted independently of other tex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borders that display when selecte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y have sizing handles that appear around the border to resize the box if neede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have a rotation handle that can be used to rotate the box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5105520" y="4648320"/>
            <a:ext cx="2114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termark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mitransparent image in the background of printed materia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6" descr="pull-quote"/>
          <p:cNvPicPr/>
          <p:nvPr/>
        </p:nvPicPr>
        <p:blipFill>
          <a:blip r:embed="rId1"/>
          <a:stretch/>
        </p:blipFill>
        <p:spPr>
          <a:xfrm>
            <a:off x="5791320" y="2209680"/>
            <a:ext cx="19047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dmark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ymbol that indicates the end of an article or news item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s var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solidFill>
            <a:srgbClr val="309fb5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f2f6"/>
                </a:solidFill>
                <a:latin typeface="Arial"/>
                <a:ea typeface="Arial"/>
              </a:rPr>
              <a:t>Reverse Tex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that is the opposite to what the reader is accustome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 text on a dark background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ten used in headlines to draw atten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sparingly!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pecial Features of Publication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2640" y="2057040"/>
            <a:ext cx="35053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llo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ped Cap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ning Headlines/Footer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6120" y="2057040"/>
            <a:ext cx="33908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mpline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ll Quot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debar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termar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d mar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erse text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Flowers.bmp"/>
          <p:cNvPicPr/>
          <p:nvPr/>
        </p:nvPicPr>
        <p:blipFill>
          <a:blip r:embed="rId1"/>
          <a:stretch/>
        </p:blipFill>
        <p:spPr>
          <a:xfrm>
            <a:off x="1143000" y="1676520"/>
            <a:ext cx="6477120" cy="4511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t 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2640" y="175212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llustrations and photographs used to convey meaning and add appea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llo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523880"/>
            <a:ext cx="6248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circle or bubble enclosing copy in an illustr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ten used in carto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Cloud Callout 6"/>
          <p:cNvSpPr/>
          <p:nvPr/>
        </p:nvSpPr>
        <p:spPr>
          <a:xfrm>
            <a:off x="3124080" y="3276720"/>
            <a:ext cx="1447920" cy="1143000"/>
          </a:xfrm>
          <a:prstGeom prst="cloudCallout">
            <a:avLst>
              <a:gd name="adj1" fmla="val -131689"/>
              <a:gd name="adj2" fmla="val 100277"/>
            </a:avLst>
          </a:prstGeom>
          <a:solidFill>
            <a:srgbClr val="9ed9e5"/>
          </a:solidFill>
          <a:ln w="25560">
            <a:solidFill>
              <a:srgbClr val="95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C:\Documents and Settings\bcrockett\Local Settings\Temporary Internet Files\Content.IE5\WNEFPRVZ\MPj04385910000[1].jpg"/>
          <p:cNvPicPr/>
          <p:nvPr/>
        </p:nvPicPr>
        <p:blipFill>
          <a:blip r:embed="rId1"/>
          <a:stretch/>
        </p:blipFill>
        <p:spPr>
          <a:xfrm>
            <a:off x="1143000" y="4114800"/>
            <a:ext cx="1563840" cy="208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SPBU17-Brat%20Captions"/>
          <p:cNvPicPr/>
          <p:nvPr/>
        </p:nvPicPr>
        <p:blipFill>
          <a:blip r:embed="rId2"/>
          <a:stretch/>
        </p:blipFill>
        <p:spPr>
          <a:xfrm>
            <a:off x="5943600" y="2286000"/>
            <a:ext cx="2173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leed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361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print effect in which a color, object or image appears to run off the edge of a pag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6" name="Picture 7" descr="C:\Documents and Settings\bcrockett\Local Settings\Temporary Internet Files\Content.IE5\C0GXJ95S\MCDD01801_0000[1].wmf"/>
          <p:cNvPicPr/>
          <p:nvPr/>
        </p:nvPicPr>
        <p:blipFill>
          <a:blip r:embed="rId1"/>
          <a:stretch/>
        </p:blipFill>
        <p:spPr>
          <a:xfrm>
            <a:off x="5105520" y="0"/>
            <a:ext cx="4595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ption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1752480"/>
            <a:ext cx="6553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ef descriptive text accompanying an image or chart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in the form of a textbox or ballo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32280" y="3657600"/>
            <a:ext cx="240660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Line 10"/>
          <p:cNvSpPr/>
          <p:nvPr/>
        </p:nvSpPr>
        <p:spPr>
          <a:xfrm>
            <a:off x="4267080" y="579132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opped Cap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enlarged character at the beginning of a paragraph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ops below the line of tex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bs the reader’s atten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3" name="Picture 3" descr="Fig05-08"/>
          <p:cNvPicPr/>
          <p:nvPr/>
        </p:nvPicPr>
        <p:blipFill>
          <a:blip r:embed="rId1">
            <a:lum contrast="6000"/>
          </a:blip>
          <a:srcRect l="0" t="8405" r="32405" b="9149"/>
          <a:stretch/>
        </p:blipFill>
        <p:spPr>
          <a:xfrm>
            <a:off x="5181480" y="3657600"/>
            <a:ext cx="3200400" cy="2400480"/>
          </a:xfrm>
          <a:prstGeom prst="rect">
            <a:avLst/>
          </a:prstGeom>
          <a:ln w="9360">
            <a:solidFill>
              <a:srgbClr val="5ec0d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unning Headlines/Footer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ning text at the top and/or bottom of a documen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so called headers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d for organization, page numbers, date, author, running title, etc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6" name="Picture 6" descr="C:\Documents and Settings\bcrockett\Local Settings\Temporary Internet Files\Content.IE5\LW7TD4EU\MPj03090300000[1].jpg"/>
          <p:cNvPicPr/>
          <p:nvPr/>
        </p:nvPicPr>
        <p:blipFill>
          <a:blip r:embed="rId1"/>
          <a:stretch/>
        </p:blipFill>
        <p:spPr>
          <a:xfrm>
            <a:off x="5257800" y="4135320"/>
            <a:ext cx="3048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umplin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which tells readers which page to refer to for the continuation of an articl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29200" y="1066680"/>
            <a:ext cx="2724120" cy="4372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5029200" y="5410080"/>
            <a:ext cx="2666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inued on B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4:16:13Z</dcterms:created>
  <dc:creator>Bladen Crockett</dc:creator>
  <dc:description/>
  <dc:language>en-US</dc:language>
  <cp:lastModifiedBy>ycsadmin</cp:lastModifiedBy>
  <dcterms:modified xsi:type="dcterms:W3CDTF">2011-06-22T21:06:33Z</dcterms:modified>
  <cp:revision>47</cp:revision>
  <dc:subject/>
  <dc:title>Slide 1</dc:title>
</cp:coreProperties>
</file>